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BCAB3-1B66-422F-B792-FD97F5E0B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50527-D340-4EF8-B199-FBCAA53BD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38CBA-1B77-46BD-887A-CEDAA9899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17773-65B0-41AC-ACD5-754B8221D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333A0-D9B7-4D4F-A259-466FD3BF0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A9B15-70F8-491F-BF0C-23328E88D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F753A-0D51-4A7F-A8F8-FCD693E98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7E648-30FD-4315-B01D-FCB8D5A5C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138F2-86E2-4310-8B46-63D7215B9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BB925-6EC9-43A3-BE50-277F1712C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1B7CF-14F7-48BA-8CB3-2471379C7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FCDDF-9FF0-4A59-88E6-6197B3BC9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D890-FAAE-41FD-9BAF-66A27ACDD6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1905120" y="4572000"/>
            <a:ext cx="5181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Sesiunea iunie - iulie</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med" advTm="5000">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8" name="Content Placeholder 5" descr="comp_i.jpg"/>
          <p:cNvPicPr/>
          <p:nvPr/>
        </p:nvPicPr>
        <p:blipFill>
          <a:blip r:embed="rId1"/>
          <a:stretch/>
        </p:blipFill>
        <p:spPr>
          <a:xfrm>
            <a:off x="5334120" y="1828800"/>
            <a:ext cx="2523960" cy="2523960"/>
          </a:xfrm>
          <a:prstGeom prst="rect">
            <a:avLst/>
          </a:prstGeom>
          <a:ln w="0">
            <a:noFill/>
          </a:ln>
        </p:spPr>
      </p:pic>
    </p:spTree>
  </p:cSld>
  <p:transition spd="med" advTm="5000">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p:transition spd="med" advTm="5000">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ws19</cp:lastModifiedBy>
  <dcterms:modified xsi:type="dcterms:W3CDTF">2012-06-18T11:04:02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